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728-880F-4C28-ADAB-5E3ED74D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E3E-A626-45B5-8666-24694854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063-342B-4669-884C-88F11DD7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7A4-A414-46AA-BD3A-50F61028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7BA1-C014-40B8-B753-D78A72A0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40A3-4367-45D2-B1C3-898CEB48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563F-AD8E-4B49-B5B1-3337ACA3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ABC8-4FD0-4539-ACE4-891CA711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743F-ACFE-4817-A5D8-09A35FBF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4C5C-11BF-421E-A6FA-3E4D414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4491-43C3-482D-A702-B5E13D7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AE5-B102-4061-9116-C76ADC71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DA03-15B8-4C30-8736-F0E5DEAF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8382-147D-461B-A679-33644E6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F73E-D0AC-4B89-B520-327AFA51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1F14-89B5-42A5-A653-7A9305CB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54A9-A244-4790-8F6B-7E7E626B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B94-CDC7-4DB9-A00E-A621630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147-40BE-4A70-A09C-6B5DC35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CF9-3618-44E9-BD7D-6035100D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C77-0ADB-4899-9CE8-7BD2EC19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74A-4F58-46F8-9479-3AC87AF4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A6C-61D9-4A0A-B9D3-B15C731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D01-690C-4659-9E5A-2F63261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01B0-D64F-46A8-ACBD-C85F792D9F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FE9F-C59D-4F9E-AB29-DAAAAB971E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otics are the study of robot tecnology, if you wants to enter a cutting edge field that paid well you could become a robotics tech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ed sent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otics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tudy of robot technology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enter a cutting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 field that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ll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could become a robotics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echnici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cus Freewr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/10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you r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 in freezing w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 in warm water where lots of 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have been swimming. (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what small children do in water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1and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 the following question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Dill’s claim to fa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was Arthur Radley in trouble with the la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id Mrs. Radley run into the street scream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was Arthur locked u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esn’t Boo come out of the house after his father d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is Scout in trouble with the teacher on her first day of scho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is Walter Cunningha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evidence was there that Atticus, in contrast to Miss Caroline, had respect for Walter’s country mann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Atticus mean when he says that professional people are poor because farmers are po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iting about TK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ut explains the Cunningham philosophy of life, which is, “If you don’t have it, you do without.” What is your opinion of the Cunninghams and this philosophy?  1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Ch.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4:03:37Z</dcterms:created>
  <dc:creator>Angie</dc:creator>
  <dc:description/>
  <dc:language>en-US</dc:language>
  <cp:lastModifiedBy>Angie</cp:lastModifiedBy>
  <dcterms:modified xsi:type="dcterms:W3CDTF">2009-01-14T04:30:28Z</dcterms:modified>
  <cp:revision>2</cp:revision>
  <dc:subject/>
  <dc:title>DOL</dc:title>
</cp:coreProperties>
</file>